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4.pct" ContentType="image/x-pict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media/image13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4078-ED0D-4E73-A297-0455DB8D2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DB81-74F1-400F-8C5D-26AD58DB4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1035-944A-469F-910C-C957211D8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5C24-0533-4D20-BFA3-856451ADA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22BD-9B02-4CC6-A650-30C56F609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6199-EB10-4916-A50B-EC5E094E4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10A3-B140-4216-863A-C029719AE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7C7C-C459-4111-9A4C-08CE3A7F7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DC33-0431-40F6-874F-6D745F94A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CCC4-DAE5-41CC-86E5-F9DAF2723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4489-6479-41F7-862A-9BC22027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BB9B-B7A1-4E04-ADC6-B9D5929D3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7c90"/>
            </a:gs>
            <a:gs pos="100000">
              <a:srgbClr val="e178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C65DF-FD48-414F-901D-16375E5CA2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7c90"/>
            </a:gs>
            <a:gs pos="100000">
              <a:srgbClr val="e178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&amp; DNA Re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7c90"/>
            </a:gs>
            <a:gs pos="100000">
              <a:srgbClr val="e178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name for the synthesis of DNA molecul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143000" y="3505320"/>
            <a:ext cx="64008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7c90"/>
            </a:gs>
            <a:gs pos="100000">
              <a:srgbClr val="e178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does DNA replicate?  Why is an exact replica importa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new cells are made, more DNA is needed.  Each DNA molecule contains instructions for making specific prot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DNA is not replicated accurately, the cell that gets the new DNA molecule won’t be able to make the proteins needed by the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7c90"/>
            </a:gs>
            <a:gs pos="100000">
              <a:srgbClr val="e178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does replication take pla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nucleus of the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where DNA is fou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486400" y="2666880"/>
            <a:ext cx="33908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7c90"/>
            </a:gs>
            <a:gs pos="100000">
              <a:srgbClr val="e178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does replication take pla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ght before mit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ear the end of interpha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85800" y="3276720"/>
            <a:ext cx="76201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7c90"/>
            </a:gs>
            <a:gs pos="100000">
              <a:srgbClr val="e178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es replication take pla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“unzip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---------------------------------------------------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zymes break the hydrogen bonds, separating the DNA molecule into 2 str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7c90"/>
            </a:gs>
            <a:gs pos="100000">
              <a:srgbClr val="e178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es replication take pla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mentary bases attach to the templ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---------------------------------------------------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e nucleotides (DNA units) in the cell combine with the exposed bases according to the rules of base pai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the original strand of DNA serves as a pattern for the new str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7c90"/>
            </a:gs>
            <a:gs pos="100000">
              <a:srgbClr val="e178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es replication take pla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Two molecules of DNA identical to each other and the original molecule are m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---------------------------------------------------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7c90"/>
            </a:gs>
            <a:gs pos="100000">
              <a:srgbClr val="e178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es replication take pla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79250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7c90"/>
            </a:gs>
            <a:gs pos="100000">
              <a:srgbClr val="e178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7c90"/>
            </a:gs>
            <a:gs pos="100000">
              <a:srgbClr val="e178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salind Frankl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k X-ray pictures of DNA crystals &amp; studied the diffraction patterns that resul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not receive credit for her contribution until after her de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867280" y="3962520"/>
            <a:ext cx="2667240" cy="2641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914400" y="3886200"/>
            <a:ext cx="44197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7c90"/>
            </a:gs>
            <a:gs pos="100000">
              <a:srgbClr val="e178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son &amp; Cri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 did any experiments on their own; used data &amp; research from others to deduce the structure &amp; make a model in 195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n Nobel prize in 196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715000" y="2819520"/>
            <a:ext cx="32004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7c90"/>
            </a:gs>
            <a:gs pos="100000">
              <a:srgbClr val="e178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is DNA fou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forms the chromosomes, which are found in the nuclei of our body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2514600"/>
            <a:ext cx="769608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7c90"/>
            </a:gs>
            <a:gs pos="100000">
              <a:srgbClr val="e178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3 basic par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phosph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deoxyribose (sug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nitrogen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048120" y="3962520"/>
            <a:ext cx="594360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7c90"/>
            </a:gs>
            <a:gs pos="100000">
              <a:srgbClr val="e178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4 types of nitrogen bas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- Adenine (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- Thymine (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- Guanine (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- Cytosine (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876920" y="1752480"/>
            <a:ext cx="3657600" cy="45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7c90"/>
            </a:gs>
            <a:gs pos="100000">
              <a:srgbClr val="e178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les for pairing nitrogen b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Reason:  they fit together like puzz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e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=T (2 bonding sit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(3 bonding si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09480" y="4038480"/>
            <a:ext cx="800100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7c90"/>
            </a:gs>
            <a:gs pos="100000">
              <a:srgbClr val="e178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SKE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YOUR MODE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3695760" cy="4419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181480" y="1295280"/>
            <a:ext cx="36576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7c90"/>
            </a:gs>
            <a:gs pos="100000">
              <a:srgbClr val="e178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MAKES DNA?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where does it come from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DNA molec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133720" y="3429000"/>
            <a:ext cx="4064040" cy="30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4T13:28:04Z</dcterms:created>
  <dc:creator>NHS NPS</dc:creator>
  <dc:description/>
  <dc:language>en-US</dc:language>
  <cp:lastModifiedBy>NHS NPS</cp:lastModifiedBy>
  <dcterms:modified xsi:type="dcterms:W3CDTF">2012-01-24T16:25:14Z</dcterms:modified>
  <cp:revision>5</cp:revision>
  <dc:subject/>
  <dc:title>DNA &amp; DNA Replication</dc:title>
</cp:coreProperties>
</file>